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A4476-7D35-44E0-9D22-39AFA9F09C8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6AB8CB-E319-40F9-85D5-6DB70794CE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2E00B-4C95-4BCF-965D-ACD6F35512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8F5074-9C83-44F2-86DC-CC470927073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AF2E1-5AA9-44B3-99F4-F54A159971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4F7575-980B-4AE7-AFCF-0A4779D2A8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8D595-DDB4-458A-AA54-05F14249A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6A4BB-23A4-42E7-96F1-F68A56D75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4781B-1670-4195-A652-E30E5097A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8B3C2-B9F7-479F-B904-F81BA6628F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6DE163-5165-44F6-93BA-D1F8D6E40A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1BB73-CC19-485F-A285-0FE2CEC57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BDECE4-0DD7-464C-88C7-E9523940F243}" type="slidenum">
              <a:rPr b="0" lang="de-DE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Calibri"/>
              </a:rPr>
              <a:t>UploadCollec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3200" spc="-1" strike="noStrike">
                <a:solidFill>
                  <a:srgbClr val="898989"/>
                </a:solidFill>
                <a:latin typeface="Calibri"/>
              </a:rPr>
              <a:t>Document: Third Quarter Result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11-11T11:53:53Z</dcterms:created>
  <dc:creator>Neuwirth, Claus</dc:creator>
  <dc:description/>
  <dc:language>en-US</dc:language>
  <cp:lastModifiedBy>Neuwirth, Claus</cp:lastModifiedBy>
  <dcterms:modified xsi:type="dcterms:W3CDTF">2014-11-11T11:55:48Z</dcterms:modified>
  <cp:revision>1</cp:revision>
  <dc:subject/>
  <dc:title>UploadCollection</dc:title>
</cp:coreProperties>
</file>